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511-9EF2-4C37-B3D7-BA5E0D9D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8B5-34D9-4BD3-966A-BE3C52E9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BDAFC-74AE-480A-81EB-C305F4E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87AFE-5C5E-403C-8C4D-1FA2E76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BA6AD-EB02-49A3-B6FB-3AB6782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FBD1-83F7-4756-A4F3-C3C53D4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FDAB9-4E97-4B55-8A07-BBF7F3A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FE034-50F6-41F5-B363-6D40A07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1622F-5FBD-4093-B90B-FAFFB0D5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172BB-F996-4789-B3FB-6117963E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77563-FC18-492F-8521-20BE35A8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0F191-8771-4D9F-BED4-1588869E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2AF-4F0B-4F03-95C7-259CC60D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64AC5-F020-42C5-AA82-EB5AF66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02AD8-DC48-44D2-B950-F96A7086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DE454-675A-4573-893A-E7C55B0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DA185-69C5-409A-B9D5-A0069F69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45D34-6E29-48AF-989E-46632DF4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F77BB-2C5A-4AEA-8DB2-65982C9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D35C2-1ABE-46BD-AE0C-53A1C82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55DE6-006F-4FB6-9B58-2272692E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24CE8-E953-4FF1-9061-B572C93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4D797-F86B-4517-967C-FB3A0FB7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D37-F542-45D4-97B2-35F2415A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0E947-0E40-4B8B-8C2E-B71D9908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F30CE-687D-4C15-9C6C-936EC720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19C25-CD6C-4C4B-801B-D96A4B0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88336-7C33-4806-AD2C-BF9E47EF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8EB31-36F1-4032-A235-50746E6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2ECB0-3A8D-4FAB-A4F2-334A1041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04568-62BC-4182-ABD3-D5D9AAA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D96E2-A765-45A0-9CAB-837D297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5E7A7-7715-470B-A884-B78D79DD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6FED-DF95-42DE-A03B-85F6E2B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A9AE-03A1-4A08-BB0C-9C6F5DF9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232D6-0AAE-4388-BB91-636C2D5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FE92D-AAE0-4E85-9C23-FBBCE22D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65326-970D-49B0-9AAB-702765D6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14310-C437-4B58-92FD-6092398D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B7B04-533F-4F0D-92D0-9D8BAF2C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6C360-76A0-44F5-9F92-1A7B537A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5987B-56F8-4B94-B5B5-215C1143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559DA-6E4D-4194-A9F9-243906CE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A4C81-1289-4FA4-AFEB-822A6B23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60162-8EE8-4194-9CB2-2FB7FF8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0D79-3623-462D-A72F-62694236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967CC-C056-4853-AF85-C89340A0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ABB93-10DD-4678-8CDA-52ACE7B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48B24-5A48-43CD-B56C-964EAFB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AEE8B-4576-4201-AF0F-3C72DFDD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9FC3B-F28E-4C25-8821-C3585EF1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FE084-95B7-47C1-9606-AA2B2650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C9FB6-93ED-48C3-BB7A-8F8E9100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DAA7F-BE64-4DEB-8EF0-D27C154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C6124-BB2C-4B1D-9396-AE3202D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5E9B3-1467-46B1-B2C4-1BCA7834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1C38-45F9-4BFB-AECF-C0B56697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50B48-5C91-4DD8-B0D4-C3648868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B5E25-6C2B-4D65-85C1-D565475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3B694-8103-49E6-A255-C6BCD47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5E917-2EC8-4C7C-9411-9C3DF63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968B9-57C2-48E1-91DD-F72CABB3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78923-9AA9-47D1-9D2A-040716F9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75A8D-9790-487F-8B47-7422F793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CDF33-1A49-4591-BB29-17C2D1C7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35756-4B6A-4211-AA2C-2937794A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CEB23-073C-4379-A27B-2E9ACF52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9EC5-2DBE-4125-8D08-6C11647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DC701-18EE-41AB-9734-D318D342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6832A-FA54-4312-97D8-C5B1EBA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CEE66-A6E5-4F5E-B32B-EAF04F3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94566-9846-4377-B37D-7200044E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93C63-0863-494E-BFA1-A9348B1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D062E-C259-4B89-86C7-D954272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C3D34-A7ED-4D63-808A-306805E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04042-6279-4345-A098-97F746D6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9F96B-E564-4BD5-BAA4-DBD1A6F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56E52-12A2-4D7F-AD0A-AFA5011B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248D-458C-4A01-97EF-8F08E335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EAD28-F5F7-4D3B-ADAF-99FA633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3AAEE-D8AE-4573-9841-343BDF1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6904A-8BD1-4DAF-BCAD-C92FFC9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9E336-CC9B-40C5-8726-D9BBBF5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ABDC8-58BC-41C9-91F8-9BD3595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87882-A35A-4590-BE0F-A40B53D3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30697-7C26-47EA-845A-CDCA83D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7B47D-D374-4745-A556-BE5B471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C16D0-EB6C-4F1B-9FD6-18B0172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B2897-A8EA-4093-A90B-4C51BF8E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44F0-99D6-4567-BB44-FB1D627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54907-B232-480E-B78C-4AD56DB3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357CD-09A8-44E3-89A4-AE121425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669B2-EB58-4395-8055-72C0EF9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A440E-E48D-4467-A7FA-31375563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B15F2-C5E7-4175-8252-D3D15F5B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1E933-E9EF-44B1-B192-4476C0D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29B22-20FC-4EDA-BF7F-D824C402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B7F97-4A58-48F9-B4A6-280ED03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AB9E5-66A7-4D8A-A6B5-63E038B0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38D6C-A314-4618-ABF6-674AB70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E509-8742-4950-A0D4-0F868A49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AED9D-687D-4BE7-887F-24A7613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CD579-FCB9-4009-884A-954B7CB6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13046-CD99-4869-900E-B91578A2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1AB1F-F208-4E54-9BCA-DFBBA44E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43EA8-AC66-47CA-91A6-A24D2CB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6679F-F6C3-4AE8-92F5-93C40CC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80F30-BFB2-4C8B-8329-9920225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D8F44-599E-48E3-B103-7AF0D31F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DF70F-5A5B-46F2-9004-7B06DC0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5539B-C21B-4E0B-A1C0-E8E2215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152-E646-4992-83DB-176D69C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DCF4-22F2-4244-8118-5B53FCB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E0927-6286-4FDC-84D9-44A02D6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C5A9D-56AC-4E25-97FA-E7AB771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38685-04CD-4090-8AE0-75672CA7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17E53-E51F-4F75-9B68-2887CDDF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F957B-458B-439E-A741-3C449C64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99A2B-F970-44A3-9721-C962EE26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193B3-AEA1-4FA1-A211-ECB9B6F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77D42-5F1F-434D-90A7-6B26253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57F82-695B-4559-B4D1-EADFBDD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6AE6A-4CA5-4C0B-833F-55E1599B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C1F9-649F-4B80-BE3C-17DEBC42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1107D-6FD7-469F-9A1F-26AAE46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EF3FD-AA99-4704-8E5B-20774201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7E5F6-B62F-4A3C-AA22-E85D8D8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9E512-8668-4290-885E-D4B3BED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C57ED-F55E-4BC9-9A42-4AF178DB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FD4ED-4455-449B-9925-E6EC51BF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2C31A-3882-4031-858D-D9B9879E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CEC37-F96A-4E08-B41E-A812DCB0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E0535-73F5-41A0-8236-80C5D84B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A606F-00AC-4E05-9092-F7F2A39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7037-46D5-438A-9494-7BA89808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CB631-9529-43D7-B9E8-57E551B0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B5246-16D6-4140-8729-453787DE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0B4DD-97F7-425C-A26C-3848466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CD491-6F2E-4E97-A652-D257037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125EE-BFD1-4D1D-8AEE-F3229E2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4B59D-AE36-48AD-BB0F-6E76242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D72F8-1419-464A-A182-2C1DEAA8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AA7967-0539-424C-9122-2AB9284F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E42DEA-E7C0-477E-A175-ABC1DC8C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98C54-AC3F-44C0-916D-80712050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1A1B-F4B8-4278-B0CD-75817309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9936F-8755-4870-A9C9-E88DB7CB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F7AA1-8D98-489F-BEAE-AA5C2DFA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FF4E2-FB95-4449-9591-EB90F6EA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1A3F3-09F0-4ED2-964A-54F470F2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11C33-9F75-4F37-AE84-11231BF2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E4201-49E4-49F7-9D0F-B4DCBC2D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12A39-42CD-42BA-B8CB-5A5EA47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AB0F2-41C9-4152-98D1-0AB02F9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41CB3-CD2C-4CBD-99D2-3F754A6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ADA69-DCC3-41F4-AF53-03099BBD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897-BD84-44FD-A66B-895536B4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4109B-154F-4A8B-A267-A159103D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A2437-F145-4939-A2D9-14D46889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EC158-9BCD-4DEF-8D02-E6E8D977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FF561B-F444-4ED8-9689-DC67C89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E9113-E285-43F6-AB7D-0AE2B4F9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20000-47A7-4B7C-AA16-30BB851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DDED4-9AF7-4083-92FD-A5807A5F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CA6CC-E9BA-4D60-B389-C6557EC0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098504-1AE7-4367-B92F-2AD4F727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A28FD-F954-482B-A74F-9F76E630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66FE-8F78-4AF5-B797-15CAAC2F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E5921-1FEC-4F47-BA4C-884A7762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1F032-CC0D-436B-BE3E-494AF1B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25EBB-20F6-46E8-8B0B-F9B35B2E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834F3-53C6-41FB-85A5-C82B98BB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44F5FB-8CFC-4092-9B52-C5AFD6CC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E51C3-0E0C-4734-AE94-D3AE442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0DF6B-57C4-4E76-B3BF-227E1FE5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21255-F488-4A5E-880F-A811648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BE5679-6AED-4C87-8609-EB6711A9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AC784-3CDD-462C-A21C-EFE19BBA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AC3D-D254-425F-9B8A-0318470C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F93315-B988-4AD9-A204-25E3B3F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5D0832-D64A-4BD2-987F-7845081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39C21-62B3-4C98-AA6B-2CED5BD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4E790-A7B6-472E-AE80-6179ACBE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E7488F-CD4B-49A6-A944-D18902A2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305FF6-4EFF-4D82-B997-826A6184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E06CE-870B-4D25-A67D-D36BAC98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0C39F-6288-4A93-A7EB-AA5453FA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48168B-A65B-4962-8ABE-5855592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F2AFA6-544D-44E8-BC5D-A544796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FD52-3F93-4557-8899-8F705147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931C4-7413-409B-B1FC-F62D3956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F4D9D-7E2F-4916-AE33-9417533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397902-A923-48D9-BD60-CB3FFD9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CDFD5C-88B4-4447-9182-93974BD6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ACC7A-D8B2-4FF0-A1F9-A52ECC4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6C79F-4E30-4157-88BB-AE493C4D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07E06-45CA-4ACD-B341-6850CCCE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E3D23-FB66-4616-AD64-3051DC5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FD3E2D-31EF-43B0-9F7F-203E43F2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345F08-F797-4CEE-BC62-551C98E3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E5AD-5D69-4CB6-9FDD-585EC86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0E9848-EBCC-4CA3-AE13-AAB350F3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0F132-0350-4C3C-8D88-67BC261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B15158-1F5E-4ED5-B9BF-268BD405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1115AD-C817-41B4-BD0D-3952A270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E1D771-7E0D-4A3D-9675-FD03FFD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30E783-7D6D-4BAD-B502-B63E0F8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B5B70F-B8B8-4D70-873F-3D9EB5C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F0C1EE-3DFC-4E41-9D4D-BEB027E2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A69A59-4811-45FB-9409-897E1B85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87FEF4-83C2-4089-B932-2F9565E9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9451-30A0-4557-99C0-27F4236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7590D9-BE2E-43EA-A8DD-3E7A7F45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818BD3-638A-4E54-AD5B-5953AA84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31E72E-BEA6-4CF2-BED4-17D2E9A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9CCD0D-C3C3-42B2-AE60-C42516E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F260FE-9D73-4B47-A795-CF8E213C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C5C07D-4190-46BE-AE46-112E036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D4DF50-820E-4EDD-97B6-9FB3E2A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819117-11B8-42E7-828F-8B9781B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DBBF4B-4443-426E-8924-60A90B87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1AA7BB-CDD8-44D3-B268-32985A19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9FB-F2AE-4A15-B9EC-68BAD771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7063-BCF3-4906-BE82-FF2795E1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DA893-68FD-4AE6-A4E0-163DC632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B027E1-6D8E-4FBB-B73E-6FF8020A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5D1EDF-C4E6-4F19-A572-BFA18CA2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3A0334-BCE2-40DB-AC81-FBD7291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48033-C640-4CD7-B577-5CAC82A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DE6F96-353F-43B3-8031-574A5E0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1C32E6-3D9E-4789-A0A6-A54DDEE8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FA5B1F-1184-464A-B3CD-75394DB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A50F95-5FEC-4145-A1B8-2A0A840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CB12C5-4540-42EE-897C-2958152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965B-8D73-4008-9BA5-C5AA6E8C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BE6A94-24D1-427B-A7AD-183B307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78B57F-63A2-41EE-9743-ABB7922F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CB6834-4588-44CA-BAAF-2DB8D01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ECBE7D-9F84-41FC-A8B8-18C5451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86BB43-F509-4C25-9957-BA79E3C5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16BFCA-AF05-458B-A0D5-32169B7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03F132-2E12-4793-907F-CBA738D9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EF9D42-F183-4162-AD10-1DBF9B04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C10FCD-A909-4BED-9ABF-815B206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0B6044-0F23-480A-A7E3-0E26FC5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FE7E-BF2C-499D-BCAA-E2744F1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18CF14-0BA7-46A5-B3D1-B03BBA0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1BD7C0-DDCC-4905-B76D-5EB8A9A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F3D3CA-8786-4235-9066-2350E72E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5C6ED-32C0-4318-A74C-1CAB5B2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57F51F-2CD8-4945-810D-FAA957ED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A86DB0-16D5-4C80-8C12-DADB4988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3BDB9A-392E-4721-9520-6597F1C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C8115E-13B3-49EA-808A-D27FA47F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E2F2FE-CF70-412D-B2E1-89F4269D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5BE714-36DF-4F9C-BD96-B8AAAF58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F1FF-2D36-4A71-A9DE-591EF965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2398CF-29BF-4C96-9095-D7FF7148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40B87F-C8D2-4FD3-88E0-2B218842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D0D8AF-48F9-43CC-8DC6-19AD29AC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723270-2A14-4FBC-9C61-47ED6B75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E741D7-9FCA-413E-B7AB-1A1AB85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8C6402-DE81-4032-A262-11B65FD8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00E554-0CC6-44FC-BF79-12DDA75C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FA36C0-FDD8-4729-9E55-F2F461D0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E1E57D-5792-4011-95E1-74D9024E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13A08F-D736-426F-BB56-15288E9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0F37-08B2-409B-BA7B-07519A9C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A33A1F-7235-4A3B-AF4C-3F9DC3F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DC0EEE-1EFF-4061-A44C-E3108DA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33EB62-4B90-4DE6-8AED-88A81A4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69FE93-615E-4D95-BD72-2BB3580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2B4871-8836-4DDB-9434-73B58DD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C22B37-939F-45A8-BC3F-83319A6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028EB3-7E9F-4D8E-9108-C709967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53B8B8-EF26-450C-A59B-111EBDA3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A19A7B-3644-40E6-8C59-FDEE7531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38F201-0B2A-47B8-9040-5BB5C445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35A1-C0C5-44A4-8FD0-276994D0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26B9B3-2422-4DB2-9268-0C352A2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398593-C4BF-4A41-8179-C122CD33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26725F-F0C7-47CB-A703-99EFB24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BAB49C-2D7E-4B8A-AD38-0264292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1F352A-00C0-48EA-8A14-CF04B7D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2508F0-2EDF-4D6E-994D-6C97C52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8023CF-AB35-47A4-B0CD-5656284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136E68-68F6-4A4F-A42D-73EF483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55E2E0-2343-43D0-99A8-28FFCEC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876206-D431-4222-949D-A75C7DE8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4FE1-0560-4B99-89D5-E2C74299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91011E-8D6D-4F12-B219-C0C4311A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998548-BDF6-43E0-8932-55A62B38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F75CF6-4881-4D54-8E2F-90329D40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DCA1F2-8C4F-4A3A-AB8A-D2C1E31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3196DD-1433-44EC-8DBC-FEC6EFB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5A3057-4A6C-4676-9828-3A320D08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59D560-64AE-48C8-B366-B90B29BE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E5A232-6C9C-4DB2-9D62-079DAAB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D832D5-08FE-4007-B0F8-34CBCC0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72E716-D896-4767-89C5-410904E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DC29-FA3B-4BD6-B733-CDE78914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BE08FE-A1FE-4E1E-AB36-A1E8331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54C069-3ED4-41AB-AFC9-E780D7BE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7606A9-765B-4F7E-9899-3495748D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63F6-1301-4154-9C51-66A159D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4415-03A6-4B0E-917B-F3BA975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2E4-7140-4F13-9F27-5E588003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9C22-762F-43C7-8077-2F7719B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569F-B93E-45AE-8381-89CC109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E7F2-1D41-4C9A-B176-097C59F8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8859E-80A1-4539-B6C0-2832A56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DEEE-A756-4530-9546-316B246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D614-DF5C-4A9E-9EAA-162252D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5D14-3B40-42F4-B1F2-B833920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AB33-3C88-4A04-A29A-0EC925ED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522D-8BA6-41F4-89DC-C764F166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5523-E663-4E60-A80F-B4A2E85D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CC6-8873-41DD-8791-11AD9C97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6752-3AD6-4610-9CD9-ECA48D5C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3EA8-8B4E-46C8-94E2-104FCDD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1247-32DA-4AEE-A9E8-1029C6C6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2B00-4383-4AF4-A570-E2620D4A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971AD-18A9-4CCC-8129-155FBBB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B325-E880-4672-AC17-A5E3A20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C194-EC4B-4A81-BD56-78F85AF7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910BC-19DA-4CBE-BB8D-F06C8DC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416E7-A1AE-4B5E-B397-C7A82BA5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BD4A-D329-4BC9-9988-5C99D26A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684-A440-4F81-A171-867BBE53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8904-7488-4A53-9322-200664DE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1C19F-A48C-49B4-A239-886B4C6C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3362-8930-407E-9B3C-A3AD94F8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D401-B3E3-4F26-91E6-D7B01A9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D07C-822D-4A18-9B9B-CDEE7E73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258C-C027-4F30-A5B3-E43101EA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5C18-C219-4944-A243-26DEC12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43667-A601-470C-992B-779576BB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32B7-A9CD-44C4-B3C3-3824082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5D9F-9A52-4586-AE3A-3658161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4A2-8633-4FA6-8239-4DB5A07F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AB36-9ADC-4ABC-9330-B1910F6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1DA5-FA91-4D2A-A204-25DA6757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7293-4338-4E07-A3C7-06B32311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5475-0558-4123-8CCF-C00108CB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EA41E-DD12-472A-859A-549789B5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C0BF-FC05-419C-9279-A30CA9F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9FD0-FF95-43BA-BC6E-177E5E2A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6675-B096-42EE-BA24-6BAE41DA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89891-0C4E-4B23-B645-1D9D88F6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E2F6-A848-4AD7-B182-F62BE50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E06-8CE9-4C59-93AA-75A0589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6F5E-8F9A-493A-A76C-E68A0EE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297CA-4978-4ED3-B7CE-2E5394C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753E-F9DB-476A-BAFC-A605BCB3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8764-F273-45EA-A37C-94A04547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4FB44-6ED6-4B9D-AA59-AF7D4CCB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1BD4E-D877-481E-A465-1A2487A8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8D0D-084A-4FF9-9879-FD077CEB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34C2-831D-4300-AE65-F2876A1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4A47F-3E4B-45EF-AF40-7AD402A4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EE2EB-504F-4A09-A3DF-DFC26F31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36A-08E6-4F2C-9F34-7AA4BE6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6108-47F5-4327-992B-7A6323C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9AD68-8268-4DA7-BBAD-578771B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05750-B709-4CC3-B71E-16FDFA8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666D-32DE-4125-800D-D814556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714A2-7CE6-41EB-BDDC-89489212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D1835-7DD1-496E-98DC-3C6CC426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BDB5E-F606-459C-9422-4D12100B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9635-A28B-4FDB-925B-E8B93F12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24EB8-37F6-44A9-8F6F-1A8A51C8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BA22E-C9AC-42EF-94BA-DA456187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DDF-403F-49C7-94AD-133E6850A7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48F-493B-4A00-ADFE-B4450AC592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06EA-F7E7-4952-BEC2-BB7D8F886F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E49D-F789-4D7C-9D29-A474D3CB73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131-C2F5-40ED-84FE-D0C754EAA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B765-CA0E-48EE-BE24-1A638E249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7DDB-C4EF-45EC-93DA-A06A55F94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2DF2-568C-4BE2-A311-57DCA2C6C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C615-145B-415C-9FB1-CB2B3D4B1D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4A1-F687-4DDE-97D3-BC9A2D14D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770-2B75-4D5D-9E24-F85E2B0B4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C16C-84C3-4B93-A38D-68AFAD439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97AF-2A7F-44BA-95F7-F6B2798D2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ACD-E885-4EB3-B4F5-CA4CA1C2F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74B-6E34-4FE6-978E-BE3B95DB01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1888-4F8D-425A-8D6E-D94141820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79C0-468F-4AB2-B5F7-FD8B0C072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33E3-F629-4A5F-B413-12EE7B3BFB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C3DE-3CE8-44EF-9533-3EF70E3275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3D1-2822-498D-80BA-435DB4DC2D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9A1-D378-4E78-88E4-24EDF7E2B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5978-53DF-4B59-AC92-F684D82DDE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3D4-4473-4394-BD07-3AFAEB50A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3B86-8848-4A39-B24A-A33BFF37A4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3BBD-F7AF-4974-9068-757A61605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DA43-EA43-48AE-8D97-7988DE1C7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7CA4-C290-46D0-8915-C8B098218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02A1-64A2-4A93-A553-3896B6247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3EE4-58F8-4546-890E-961BA189B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B1E1-9AFD-4954-AE66-F5E6572B3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3808-265F-4984-BBD0-3A3E99D85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69D-0BEB-483F-98C1-6A80F9DF0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3FFE-0974-4712-A668-80BC85402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0BDE-4722-4E24-9E63-BF4BD87CF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2000-9089-45C3-9DCC-DF749CCEF2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6D75-D820-4511-B2B2-039BE6595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198A-820D-42FB-96A6-A4C32CE8C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1441-A09F-4F47-B5AC-277C14AEE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0E78-F4D8-4EE3-9BC4-516849FE8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63F6-2A22-4394-B720-CA92DC7448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D15-5634-4C13-BDD2-726790694A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1B5A-D620-40C7-9237-CA7AD783F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2B4F-CC49-437C-89B3-CFD57E99A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4F7F-83D4-4C57-8350-F2B126283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AC6-6C64-4DC2-819D-42AB38E71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5B48-579B-4502-937D-40DE5094C4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7859-FE98-4E5C-A240-7EF059B450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FC1-E496-4EDD-A906-027EB237A5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06E-8464-406F-AB02-4D886528B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CA1-ACC4-411B-B601-7DA5A78AD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2085840" cy="7048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447920" y="3086280"/>
            <a:ext cx="6248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9873" descr=""/>
          <p:cNvPicPr/>
          <p:nvPr/>
        </p:nvPicPr>
        <p:blipFill>
          <a:blip r:embed="rId1"/>
          <a:stretch/>
        </p:blipFill>
        <p:spPr>
          <a:xfrm>
            <a:off x="1647720" y="2362320"/>
            <a:ext cx="5848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7884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05760" cy="208620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78850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2076480" cy="236232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78851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4638600" cy="22478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78852"/>
          <p:cNvSpPr/>
          <p:nvPr/>
        </p:nvSpPr>
        <p:spPr>
          <a:xfrm>
            <a:off x="1332000" y="2011320"/>
            <a:ext cx="14904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8853"/>
          <p:cNvSpPr/>
          <p:nvPr/>
        </p:nvSpPr>
        <p:spPr>
          <a:xfrm>
            <a:off x="2700360" y="257652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77825" descr=""/>
          <p:cNvPicPr/>
          <p:nvPr/>
        </p:nvPicPr>
        <p:blipFill>
          <a:blip r:embed="rId1"/>
          <a:stretch/>
        </p:blipFill>
        <p:spPr>
          <a:xfrm>
            <a:off x="542880" y="1590840"/>
            <a:ext cx="8058240" cy="3676320"/>
          </a:xfrm>
          <a:prstGeom prst="rect">
            <a:avLst/>
          </a:prstGeom>
          <a:ln w="0">
            <a:noFill/>
          </a:ln>
        </p:spPr>
      </p:pic>
      <p:sp>
        <p:nvSpPr>
          <p:cNvPr id="1461" name="矩形 77826"/>
          <p:cNvSpPr/>
          <p:nvPr/>
        </p:nvSpPr>
        <p:spPr>
          <a:xfrm>
            <a:off x="6227640" y="3763800"/>
            <a:ext cx="944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77827"/>
          <p:cNvSpPr/>
          <p:nvPr/>
        </p:nvSpPr>
        <p:spPr>
          <a:xfrm>
            <a:off x="6877080" y="429264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76802" descr=""/>
          <p:cNvPicPr/>
          <p:nvPr/>
        </p:nvPicPr>
        <p:blipFill>
          <a:blip r:embed="rId1"/>
          <a:stretch/>
        </p:blipFill>
        <p:spPr>
          <a:xfrm>
            <a:off x="747720" y="1562040"/>
            <a:ext cx="7648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89089" descr=""/>
          <p:cNvPicPr/>
          <p:nvPr/>
        </p:nvPicPr>
        <p:blipFill>
          <a:blip r:embed="rId1"/>
          <a:stretch/>
        </p:blipFill>
        <p:spPr>
          <a:xfrm>
            <a:off x="533520" y="1757520"/>
            <a:ext cx="807696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90114" descr=""/>
          <p:cNvPicPr/>
          <p:nvPr/>
        </p:nvPicPr>
        <p:blipFill>
          <a:blip r:embed="rId1"/>
          <a:stretch/>
        </p:blipFill>
        <p:spPr>
          <a:xfrm>
            <a:off x="528480" y="1114560"/>
            <a:ext cx="8087040" cy="46288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90115"/>
          <p:cNvSpPr/>
          <p:nvPr/>
        </p:nvSpPr>
        <p:spPr>
          <a:xfrm>
            <a:off x="3203640" y="4005360"/>
            <a:ext cx="108108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0116"/>
          <p:cNvSpPr/>
          <p:nvPr/>
        </p:nvSpPr>
        <p:spPr>
          <a:xfrm>
            <a:off x="4129200" y="4797360"/>
            <a:ext cx="1224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0117"/>
          <p:cNvSpPr/>
          <p:nvPr/>
        </p:nvSpPr>
        <p:spPr>
          <a:xfrm>
            <a:off x="5867280" y="4797360"/>
            <a:ext cx="95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1137" descr=""/>
          <p:cNvPicPr/>
          <p:nvPr/>
        </p:nvPicPr>
        <p:blipFill>
          <a:blip r:embed="rId1"/>
          <a:stretch/>
        </p:blipFill>
        <p:spPr>
          <a:xfrm>
            <a:off x="905040" y="990720"/>
            <a:ext cx="7333920" cy="48765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91138"/>
          <p:cNvSpPr/>
          <p:nvPr/>
        </p:nvSpPr>
        <p:spPr>
          <a:xfrm>
            <a:off x="4932360" y="5229360"/>
            <a:ext cx="49356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91139"/>
          <p:cNvSpPr/>
          <p:nvPr/>
        </p:nvSpPr>
        <p:spPr>
          <a:xfrm>
            <a:off x="6084720" y="5229360"/>
            <a:ext cx="4939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2161" descr=""/>
          <p:cNvPicPr/>
          <p:nvPr/>
        </p:nvPicPr>
        <p:blipFill>
          <a:blip r:embed="rId1"/>
          <a:stretch/>
        </p:blipFill>
        <p:spPr>
          <a:xfrm>
            <a:off x="847800" y="1819440"/>
            <a:ext cx="7448400" cy="3219120"/>
          </a:xfrm>
          <a:prstGeom prst="rect">
            <a:avLst/>
          </a:prstGeom>
          <a:ln w="0">
            <a:noFill/>
          </a:ln>
        </p:spPr>
      </p:pic>
      <p:sp>
        <p:nvSpPr>
          <p:cNvPr id="1473" name="矩形 92162"/>
          <p:cNvSpPr/>
          <p:nvPr/>
        </p:nvSpPr>
        <p:spPr>
          <a:xfrm>
            <a:off x="3995640" y="2409840"/>
            <a:ext cx="7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2163"/>
          <p:cNvSpPr/>
          <p:nvPr/>
        </p:nvSpPr>
        <p:spPr>
          <a:xfrm>
            <a:off x="2556000" y="40608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02401" descr=""/>
          <p:cNvPicPr/>
          <p:nvPr/>
        </p:nvPicPr>
        <p:blipFill>
          <a:blip r:embed="rId1"/>
          <a:stretch/>
        </p:blipFill>
        <p:spPr>
          <a:xfrm>
            <a:off x="533520" y="1162080"/>
            <a:ext cx="8076960" cy="453384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02402"/>
          <p:cNvSpPr/>
          <p:nvPr/>
        </p:nvSpPr>
        <p:spPr>
          <a:xfrm>
            <a:off x="7812000" y="407664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01377" descr=""/>
          <p:cNvPicPr/>
          <p:nvPr/>
        </p:nvPicPr>
        <p:blipFill>
          <a:blip r:embed="rId1"/>
          <a:stretch/>
        </p:blipFill>
        <p:spPr>
          <a:xfrm>
            <a:off x="552600" y="2319480"/>
            <a:ext cx="80388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6" descr=""/>
          <p:cNvPicPr/>
          <p:nvPr/>
        </p:nvPicPr>
        <p:blipFill>
          <a:blip r:embed="rId1"/>
          <a:stretch/>
        </p:blipFill>
        <p:spPr>
          <a:xfrm>
            <a:off x="461880" y="746280"/>
            <a:ext cx="8029800" cy="370512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88067" descr=""/>
          <p:cNvPicPr/>
          <p:nvPr/>
        </p:nvPicPr>
        <p:blipFill>
          <a:blip r:embed="rId2"/>
          <a:stretch/>
        </p:blipFill>
        <p:spPr>
          <a:xfrm>
            <a:off x="971640" y="4611600"/>
            <a:ext cx="6343560" cy="1895400"/>
          </a:xfrm>
          <a:prstGeom prst="rect">
            <a:avLst/>
          </a:prstGeom>
          <a:ln w="0">
            <a:noFill/>
          </a:ln>
        </p:spPr>
      </p:pic>
      <p:pic>
        <p:nvPicPr>
          <p:cNvPr id="1436" name="图片 88068" descr=""/>
          <p:cNvPicPr/>
          <p:nvPr/>
        </p:nvPicPr>
        <p:blipFill>
          <a:blip r:embed="rId3"/>
          <a:stretch/>
        </p:blipFill>
        <p:spPr>
          <a:xfrm>
            <a:off x="7308720" y="4581360"/>
            <a:ext cx="1123920" cy="38124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8069"/>
          <p:cNvSpPr/>
          <p:nvPr/>
        </p:nvSpPr>
        <p:spPr>
          <a:xfrm>
            <a:off x="7667640" y="4581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00353" descr=""/>
          <p:cNvPicPr/>
          <p:nvPr/>
        </p:nvPicPr>
        <p:blipFill>
          <a:blip r:embed="rId1"/>
          <a:stretch/>
        </p:blipFill>
        <p:spPr>
          <a:xfrm>
            <a:off x="466560" y="712800"/>
            <a:ext cx="8077320" cy="591660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00354"/>
          <p:cNvSpPr/>
          <p:nvPr/>
        </p:nvSpPr>
        <p:spPr>
          <a:xfrm>
            <a:off x="7740720" y="3573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99329" descr=""/>
          <p:cNvPicPr/>
          <p:nvPr/>
        </p:nvPicPr>
        <p:blipFill>
          <a:blip r:embed="rId1"/>
          <a:stretch/>
        </p:blipFill>
        <p:spPr>
          <a:xfrm>
            <a:off x="733320" y="1509840"/>
            <a:ext cx="76773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8305" descr=""/>
          <p:cNvPicPr/>
          <p:nvPr/>
        </p:nvPicPr>
        <p:blipFill>
          <a:blip r:embed="rId1"/>
          <a:stretch/>
        </p:blipFill>
        <p:spPr>
          <a:xfrm>
            <a:off x="468360" y="723960"/>
            <a:ext cx="8067600" cy="325584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98306" descr=""/>
          <p:cNvPicPr/>
          <p:nvPr/>
        </p:nvPicPr>
        <p:blipFill>
          <a:blip r:embed="rId2"/>
          <a:stretch/>
        </p:blipFill>
        <p:spPr>
          <a:xfrm>
            <a:off x="539640" y="4044960"/>
            <a:ext cx="8001000" cy="2565360"/>
          </a:xfrm>
          <a:prstGeom prst="rect">
            <a:avLst/>
          </a:prstGeom>
          <a:ln w="0">
            <a:noFill/>
          </a:ln>
        </p:spPr>
      </p:pic>
      <p:sp>
        <p:nvSpPr>
          <p:cNvPr id="1483" name="矩形 98307"/>
          <p:cNvSpPr/>
          <p:nvPr/>
        </p:nvSpPr>
        <p:spPr>
          <a:xfrm>
            <a:off x="7740720" y="24922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7041" descr=""/>
          <p:cNvPicPr/>
          <p:nvPr/>
        </p:nvPicPr>
        <p:blipFill>
          <a:blip r:embed="rId1"/>
          <a:stretch/>
        </p:blipFill>
        <p:spPr>
          <a:xfrm>
            <a:off x="542880" y="1552680"/>
            <a:ext cx="8058240" cy="375264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7042"/>
          <p:cNvSpPr/>
          <p:nvPr/>
        </p:nvSpPr>
        <p:spPr>
          <a:xfrm>
            <a:off x="7308720" y="1557360"/>
            <a:ext cx="9684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6017" descr=""/>
          <p:cNvPicPr/>
          <p:nvPr/>
        </p:nvPicPr>
        <p:blipFill>
          <a:blip r:embed="rId1"/>
          <a:stretch/>
        </p:blipFill>
        <p:spPr>
          <a:xfrm>
            <a:off x="542880" y="1562040"/>
            <a:ext cx="8058240" cy="373392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6018"/>
          <p:cNvSpPr/>
          <p:nvPr/>
        </p:nvSpPr>
        <p:spPr>
          <a:xfrm>
            <a:off x="4859280" y="201132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6019"/>
          <p:cNvSpPr/>
          <p:nvPr/>
        </p:nvSpPr>
        <p:spPr>
          <a:xfrm>
            <a:off x="6588000" y="204948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499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7960" cy="55627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4994"/>
          <p:cNvSpPr/>
          <p:nvPr/>
        </p:nvSpPr>
        <p:spPr>
          <a:xfrm>
            <a:off x="7740720" y="494172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3969" descr=""/>
          <p:cNvPicPr/>
          <p:nvPr/>
        </p:nvPicPr>
        <p:blipFill>
          <a:blip r:embed="rId1"/>
          <a:stretch/>
        </p:blipFill>
        <p:spPr>
          <a:xfrm>
            <a:off x="477720" y="1320840"/>
            <a:ext cx="8029800" cy="251460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83970" descr=""/>
          <p:cNvPicPr/>
          <p:nvPr/>
        </p:nvPicPr>
        <p:blipFill>
          <a:blip r:embed="rId2"/>
          <a:stretch/>
        </p:blipFill>
        <p:spPr>
          <a:xfrm>
            <a:off x="973080" y="3944880"/>
            <a:ext cx="5391360" cy="15051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3971"/>
          <p:cNvSpPr/>
          <p:nvPr/>
        </p:nvSpPr>
        <p:spPr>
          <a:xfrm>
            <a:off x="4356000" y="234936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2945" descr=""/>
          <p:cNvPicPr/>
          <p:nvPr/>
        </p:nvPicPr>
        <p:blipFill>
          <a:blip r:embed="rId1"/>
          <a:stretch/>
        </p:blipFill>
        <p:spPr>
          <a:xfrm>
            <a:off x="571680" y="1319040"/>
            <a:ext cx="8001000" cy="421992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2946"/>
          <p:cNvSpPr/>
          <p:nvPr/>
        </p:nvSpPr>
        <p:spPr>
          <a:xfrm>
            <a:off x="1332000" y="3476520"/>
            <a:ext cx="1503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2947"/>
          <p:cNvSpPr/>
          <p:nvPr/>
        </p:nvSpPr>
        <p:spPr>
          <a:xfrm>
            <a:off x="7380360" y="4581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81921" descr=""/>
          <p:cNvPicPr/>
          <p:nvPr/>
        </p:nvPicPr>
        <p:blipFill>
          <a:blip r:embed="rId1"/>
          <a:stretch/>
        </p:blipFill>
        <p:spPr>
          <a:xfrm>
            <a:off x="623880" y="1839960"/>
            <a:ext cx="80391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80899" descr=""/>
          <p:cNvPicPr/>
          <p:nvPr/>
        </p:nvPicPr>
        <p:blipFill>
          <a:blip r:embed="rId1"/>
          <a:stretch/>
        </p:blipFill>
        <p:spPr>
          <a:xfrm>
            <a:off x="557280" y="1295280"/>
            <a:ext cx="8029440" cy="42674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80900"/>
          <p:cNvSpPr/>
          <p:nvPr/>
        </p:nvSpPr>
        <p:spPr>
          <a:xfrm>
            <a:off x="7812000" y="234936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1:17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